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A3E49-2D72-47DE-AAFA-14BD3AB2F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108F-0DC0-44E7-B8C2-0D10EFF42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69EF7-2E26-4EC5-BE6E-AF6F9905A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002C-CD5B-4965-A372-C40503A8E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E1E8-D354-4AEE-843F-DE22033C9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BC12-52B2-499B-B922-9A0F8A9C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DA70-24D4-4381-9897-3006E2F9E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13FF6-FC3D-418E-B884-5BDEAF48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5A87-88B5-48B0-B892-A1262CBC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8151-D8F2-4479-9CDC-5A1AC68F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7F5C-6BE4-4F75-9827-3C491A0C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344D-7C50-42FA-A70F-1EE049912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4B24-13D1-4388-8188-C4770D69831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4716360" y="18446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8"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5Z</dcterms:modified>
  <cp:revision>2</cp:revision>
  <dc:subject>CNEE</dc:subject>
  <dc:title>CNEE</dc:title>
</cp:coreProperties>
</file>